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9C66-E8E6-4348-BA47-1D4E2D328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6F85-3063-4873-8472-64CC1E27B976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8EFB-BB5B-4B73-8679-9BAAC6A02759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570B-B13A-41F5-91E0-AEFFA0FAFB9E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A761-0034-4862-937E-2AD4158D1090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5A73-B323-4C67-9BD4-1F16E53E69C9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B19F-78A3-4711-93D1-827754BEC28D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0E06-7963-40A4-ACED-3B1FFF37D0C2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716A-7429-40C0-81F9-B164C44B8481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12E5-AA44-4C43-BDF1-47D5F94D60A7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9455-E074-4E4F-806A-28EED625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EFCA-645D-40BD-AC86-BA26ABA4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F111-52DF-4825-9155-2391916F5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D01B-7C79-4314-AA31-8E283946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11BF-4D7F-4A52-A6D3-1A2E6139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CBB4-BDBC-4CE0-AB11-75FC0D62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10FB-594D-4EBE-928D-96B620CD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19A6-D255-429E-B760-08C64FB9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DE3F-ED36-4EE1-90F4-EA2B2CA8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3E21-18D4-47A2-BC40-EB156F91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4DF9-0AF6-4D80-BB32-324B25AE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FE91-EF80-4EE8-847E-D6DDE47E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D7AF-94C7-40FB-8490-B95CDC8F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615E-9FBD-42A7-985A-477E1A54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50DB-E97B-4B81-B13A-06C2121A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E010-7AC9-45B3-8A1B-63DC4F1E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6FAB-1261-45AD-BB81-EBF2ACC2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865DB-F05C-4796-A1B4-2EBD2DFD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D6C1A-E92A-4CEA-A6FF-A284E26B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66477-6090-4AAE-9186-97829C19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4AFBC-7B1A-44D5-A0A6-24C97BE0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89F87-65FD-4717-BAC6-1A4C00DF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B89D-E7AF-48EF-B499-AAD51965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1F9EF-596C-4C5C-A382-62D437D8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C90AA-1649-41ED-A0B7-0DFEC9EB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D0BB2-8EE1-4AE0-9439-EA93D6E7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AA332-7DBB-4F0F-8234-7E16F7DF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F7C67-B734-4D8B-8E9B-0F8B890A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184F2-8311-4BB6-8109-EF793B40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8ADA6-0701-432E-B3A8-58B227B4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FC418-7E37-4569-8B24-6B9AE0B7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A7195-DFD0-4821-9563-63C8E380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D8585-BB5E-4092-8E0F-202CAEA3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60F2-FD79-49B9-9832-632D9814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3C0A8-6A47-46E4-BDA8-3C43FBDC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EB1F1-9328-4676-ADE9-24F4988E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F6B9B-3E42-428F-94D1-22C414DC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A2737-3255-4177-9722-B150198D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27E11-B144-4337-B29C-548A1C54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A4EC4-A619-462B-A1FA-BB899E76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26F8F-03F9-4FB3-A216-4B3F866A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98C46-8FED-4800-BAE9-B9BCA1D7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3CF96-FCB8-45DA-81CD-A85E1FFD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387C0-D82B-4C6B-BBF3-EB4C307B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A508-1613-4B89-85DB-A052C1E3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D5D1C-050E-4F50-B335-7070ECEE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1625C-74BA-47DD-B1B8-807C126F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B7F4B-A621-43B5-B61C-7622B2C4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44699-76B3-4ADE-99E3-8D9A0EFE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15377-48CC-479C-A3EB-43FED3A1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33D02-5B5D-445D-893A-F027F4C4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4E14A-6EB3-4A36-A514-2E9436C1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E1447-E73F-4F37-9B50-22697387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846A2-9A2B-4EDE-891F-C78DAFEF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61409-D287-421A-A233-B6BCDA9A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0A12-95A3-4FFB-BA9C-29B4DCF4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0D8EF-B889-4225-900F-05FAE111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11B21-475C-46A4-89E9-D14B1FC08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3A10B-D5AF-4C2F-B284-315FFB10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F848F-29AC-4E63-8BA8-B355AF60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51CF0-B089-4A6B-B202-D726C84B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39127-A984-48FF-9639-E2D2C558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C21DC-D6BD-4613-A3FA-0A714886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C7AB6-08DA-45EE-A90A-3CE312BF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F5522-F96F-4F2F-8AD9-567F4B68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97675-7993-447E-A943-10661468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7AA6-3446-4687-A3D5-2916C210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C94F2-A2F9-4325-B887-8A75B576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992AD-134D-4276-B781-C7EB079B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37406-8C16-41F6-BE6C-23D90AC3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F158C-96FE-43A5-9D54-C6633EC1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A7AF3-8056-4F20-B016-15DF2832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77073-0AA1-4AA9-8CE6-12AFF5FF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F5367-6FD0-4F15-9FDB-D0F73E8E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848CB-4C29-4772-92D0-B1BA95BE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AB895-F41A-4564-9970-5A5C5FD1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12BD6-8284-4E13-A2AB-341FD36F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0445-D1F5-49F3-821B-48E793B0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9636C-BD07-4FF1-B78B-C86FBDB5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C8E3C-A9D2-4CA2-A6E4-ED81956F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7E8EC-58D3-4C19-A8DD-CC6C2A22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6878B-04B8-4867-98B3-16F7EE34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75950-BE2D-4391-84A5-E160BCBC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594C2-63CB-4794-BDF7-C8B81C45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BA2CE-E962-4E55-9E93-B4D3CA02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A088D-A8B8-4A7C-8683-0D6631B8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CD131-7AF8-4976-B09B-2024DFD1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1ADD6-3299-47D1-991C-314185FC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0DB-4885-4E8E-A624-3EB5E290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1219A-B348-4404-A8A9-34B1123B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35B98-3CA4-4517-958C-6B168531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0D16D-B744-4349-9E90-7B1CA1F9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C1B97-03C3-4928-8730-642E25DD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362B9-EA1F-437D-A1F2-64B6830A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965B9-58EE-4C3A-9A1A-1F077464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5CCAE-DA42-4673-8374-F532FFB82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5372-00B9-4A36-BEE4-E5A9E0B777E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FA5B-9260-49B5-93DF-33512A08D3A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BA9C-568C-4F00-A66F-83C1A018BE36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FA2C-9A5B-4A43-8DC1-AFC8C6592C4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C357-5EF3-4E91-864F-8C81F7221C0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9C7E-B0D5-46B4-AFBA-E62776C66F2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5449-453B-4EFC-AD32-902104334F35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45CB-57D1-459F-9F6A-86AA11D98B0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ing in Qualitative Research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Shahaduz Zaman Ph.D.</a:t>
            </a:r>
            <a:br>
              <a:rPr sz="2800"/>
            </a:b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Newcastle University, UK </a:t>
            </a:r>
            <a:br>
              <a:rPr sz="28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C0A0-7971-4B9D-9870-AF8BBF9FC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e size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D326-9605-4165-8B28-DFD17E26F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How many is enough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nough to do justice to the subject, no more, no less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14FC-E09C-48CA-BD16-ABD7202D4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20 minutes interview with 200 peopl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vs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20 hours interview with 2 peopl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17C3-043F-4B29-8E19-2EAA62752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ud’s ground breaking theory ‘Psychoanalysis’ -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Based on 10 cas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udied over 5 years</a:t>
            </a:r>
            <a:br>
              <a:rPr sz="3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Rule of the thumb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2410-ED8B-4D85-975A-4C6C76748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fficienc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Covering maximum variety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of respondents 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tur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Point of redundancy in response</a:t>
            </a:r>
            <a:br>
              <a:rPr sz="3200"/>
            </a:b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3E01-12A3-4A3F-B011-01313CD14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ample determination is influenced by 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Homogeneity of the group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Nature and experience of the researcher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AA1F-E368-41F6-8451-D1E21C5A8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phenomenological Studies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At least 6 interviews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grounded theory Studi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12 interviews in each category 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Greg Guest, Arwen Bunce and Laura Johnson (2006) Field Methods (18, 59)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Sampl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ntitative Sampl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litative Sampl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C864-F3C1-4F71-A46D-B4BDB367C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Large samples selected random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ample should be representative of some larger population to which one hopes to generalize research finding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 depth, small samples selected purposive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ampling driven by the desire to illuminate questions under study, and to increase the scope or range of data expose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litativ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C9A7-24EB-4137-8665-CEC87FB68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egins with a relatively fixed theory, eg. An explanation for something that is to be tested. Theory tested in context of random sample, using large enough </a:t>
            </a:r>
            <a:r>
              <a:rPr b="0" i="1" lang="en-GB" sz="3600" spc="-1" strike="noStrike">
                <a:solidFill>
                  <a:srgbClr val="000000"/>
                </a:solidFill>
                <a:latin typeface="Gill Sans MT"/>
              </a:rPr>
              <a:t>N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o</a:t>
            </a:r>
            <a:r>
              <a:rPr b="0" lang="en-GB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monstrate statistical significance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644720" y="2174760"/>
            <a:ext cx="40417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Begins with ‘flexible’ theory, allowing for further revision/ decision regarding boundary of investigation, follows a process such as what data sources are ‘rich’, who should I talk to, what should I look at first. As research progresses, ask what data sources may confirm my understanding (theory) or challenge.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ampling Strategies 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2C5A-F2B5-4C9E-B05E-AB6AD9A31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aximum vari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heory based: Sampling in focused manner, based on a priory theory being evalu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nfirming/Disconfirming c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xtreme or deviant cas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tratified purposeful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nowball/Chain Sampl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B973-31C1-4934-9E24-3DAEC0B89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4" descr="f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164F-4880-4112-A4F1-418A0D096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Diagram 5"/>
          <p:cNvGrpSpPr/>
          <p:nvPr/>
        </p:nvGrpSpPr>
        <p:grpSpPr>
          <a:xfrm>
            <a:off x="1044360" y="171360"/>
            <a:ext cx="7870680" cy="5091120"/>
            <a:chOff x="1044360" y="171360"/>
            <a:chExt cx="7870680" cy="5091120"/>
          </a:xfrm>
        </p:grpSpPr>
        <p:sp>
          <p:nvSpPr>
            <p:cNvPr id="363" name="_s1028"/>
            <p:cNvSpPr/>
            <p:nvPr/>
          </p:nvSpPr>
          <p:spPr>
            <a:xfrm>
              <a:off x="1044360" y="1597680"/>
              <a:ext cx="4885560" cy="3664800"/>
            </a:xfrm>
            <a:prstGeom prst="donut">
              <a:avLst>
                <a:gd name="adj" fmla="val 16666"/>
              </a:avLst>
            </a:prstGeom>
            <a:solidFill>
              <a:srgbClr val="4646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_s1029"/>
            <p:cNvSpPr/>
            <p:nvPr/>
          </p:nvSpPr>
          <p:spPr>
            <a:xfrm>
              <a:off x="7613640" y="180000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ot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_s1030"/>
            <p:cNvSpPr/>
            <p:nvPr/>
          </p:nvSpPr>
          <p:spPr>
            <a:xfrm>
              <a:off x="1857240" y="2207160"/>
              <a:ext cx="3256920" cy="2442600"/>
            </a:xfrm>
            <a:prstGeom prst="donut">
              <a:avLst>
                <a:gd name="adj" fmla="val 25000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_s1031"/>
            <p:cNvSpPr/>
            <p:nvPr/>
          </p:nvSpPr>
          <p:spPr>
            <a:xfrm>
              <a:off x="7613640" y="98568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lig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_s1032"/>
            <p:cNvSpPr/>
            <p:nvPr/>
          </p:nvSpPr>
          <p:spPr>
            <a:xfrm>
              <a:off x="2673000" y="2819160"/>
              <a:ext cx="1628280" cy="1221840"/>
            </a:xfrm>
            <a:prstGeom prst="ellipse">
              <a:avLst/>
            </a:prstGeom>
            <a:solidFill>
              <a:srgbClr val="b292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_s1033"/>
            <p:cNvSpPr/>
            <p:nvPr/>
          </p:nvSpPr>
          <p:spPr>
            <a:xfrm>
              <a:off x="7613640" y="17136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mpl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6B2A-7751-4D69-87A2-4921AA7EF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rposive sampling should never be confused with sampling for convenienc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Features of qualitative sampling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5A2C-3CF2-4718-85A5-478F8D26B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Qualitative sampling is systematic but flexib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Guided by clear research ques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ample evolves as the study progress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0985-BFC6-4CF7-9F95-278B911CD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ample units are selected serially. Who and what comes next depends on who and what comes befor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election continues to the point of redundancy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Qualitative sampl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E06D-8527-4300-8769-63F1ACBE4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process (Plan-Revis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agmatic (Time, money, personnel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ke considerations explicit/Justify what has been do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Warning in qualitative sampling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6864-8B20-462E-A8D1-829E1AA04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too thi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selecting the exotic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fitting researchers ideal percepti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es qualitative research present bias results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is the Generalizibility  of qualitative research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1" lang="en-US" sz="3100" spc="-1" strike="noStrike">
                <a:solidFill>
                  <a:srgbClr val="464653"/>
                </a:solidFill>
                <a:latin typeface="Bookman Old Style"/>
              </a:rPr>
              <a:t>Biases</a:t>
            </a:r>
            <a:endParaRPr b="0" lang="en-US" sz="31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fective Instru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bserver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lection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formation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ffect of observ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Bias is (partly) unavoidable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Dealing with bias in  Qualitative research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flexivit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ansferabilit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53"/>
                </a:solidFill>
                <a:latin typeface="Bookman Old Style"/>
              </a:rPr>
              <a:t>Types of triangulation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metho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sour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research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perspectiv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image_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Quantitative Sampling : Random Sampling 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5581-A0BE-4F6F-8818-B56AAE9C0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e that is representative in a statistical way of the whole population of intere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which each member of the population has an equal chances of being select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4653"/>
                </a:solidFill>
                <a:latin typeface="Bookman Old Style"/>
              </a:rPr>
              <a:t>Objectivity vs Reflexivity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Objectivity: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term generally implies maintaining distance between the observer and the observed and minimizing any possible influence of the researchers value on the process of inqui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22288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Reflexivity: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way of knowing that even as a co- participant in the inquiry the researcher has maintained the distinction between personal values and those of the participants.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mpathic Neutral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t suggests that there is a middle ground between becoming too involved which can cloud judgment, and remaining too distant, which can reduce understanding. 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flexiv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earcher’s critical self awareness -is a vital process in which you question and observe yourself at the same time you listen to and observe the participant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64653"/>
                </a:solidFill>
                <a:latin typeface="Bookman Old Style"/>
              </a:rPr>
              <a:t>Generalizibility</a:t>
            </a:r>
            <a:endParaRPr b="0" lang="en-US" sz="21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tal Generaliz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atistical Generaliz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tural Generalization (Transferability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4653"/>
                </a:solidFill>
                <a:latin typeface="Bookman Old Style"/>
              </a:rPr>
              <a:t>Generalizibility vs Transferability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Generalizi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findings of the research can be generalized to the wider population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2288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ransfera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the conclusions of a study are transferable to other contex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Qualitative Sampling: Purposive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3208-FACD-4859-B864-E922D47D9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 contrast to random sampling, 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information rich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cases are selected according to the purpose of the stud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 order to get a holistic picture sampling  includes a serious search for both positive and negative cases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heoretical Sampl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tto of qualitative sampl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0A5E-0D4A-46C5-A3B3-F5FBACA56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mall is beautifu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ot about littl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Aim of sampling in qualitative research 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1692-D16B-48E1-A6EE-5A4C6D59B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he primary purpose of sampling is to collect specific cases, events, or actions that can clarify and deepen understand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6E5C-6014-42DE-B445-4CE66DB51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eadth Versus Dept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oader range of experiences for a smaller number of peopl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ing uni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58EE-B6E6-4769-A0B4-061E63DA1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antitative Sampling samples peop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alitative Sampling samples people, time, site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F35D-B86C-4C4C-A99A-8CF208280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people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ypical cas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viant cases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si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va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ublic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tim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ay/ nigh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ason/Personal occurrence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1:02:25Z</dcterms:created>
  <dc:creator>Neeor</dc:creator>
  <dc:description/>
  <dc:language>en-US</dc:language>
  <cp:lastModifiedBy>Zaman</cp:lastModifiedBy>
  <dcterms:modified xsi:type="dcterms:W3CDTF">2013-12-11T21:12:33Z</dcterms:modified>
  <cp:revision>37</cp:revision>
  <dc:subject/>
  <dc:title>Selecting Unit of Study Sampling</dc:title>
</cp:coreProperties>
</file>